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E8C8-0485-419F-9045-CDD18C15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D3B-A6C5-464E-9D7C-94A9536E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7F36-F1B4-49F3-80A3-4AC87220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485D-57C2-4AE3-86F8-193AF607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757-5E63-47A5-B942-1017ECFA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9DE-2114-4537-A6DB-C499553A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1569-43D3-4736-A055-C516E280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C91-0265-4B99-A570-D5A4EFF4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926-EA7A-4D8C-9296-3F089651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9578-4A19-41DD-8218-5FCBDF21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8735-E109-4E8A-B118-D4F85F37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5C5-C69E-49A7-BA00-2B01E4FA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2945-62E8-4414-A803-2AFE89E771B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33280" y="1125360"/>
            <a:ext cx="8677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8032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هو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هود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هود عليه السلام مع قو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ن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41608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27160" y="4724280"/>
            <a:ext cx="86659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عن أبي بكر رضي الله عنه أنه قال : يا رسول الله : قد شبت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: ((شيبتني هود والواقعة والمرسلات وعم يتساءلون وإذا الشمس كورت)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رسل في الدعوة إ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ن أسس العقيدة الإسلا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مآل المؤمنين والكافرين يوم القيا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رسول صلى الله عليه وسلم وأصحابه إلى الص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6T09:39:12Z</dcterms:modified>
  <cp:revision>1796</cp:revision>
  <dc:subject/>
  <dc:title>عرض تقديمي في PowerPoint</dc:title>
</cp:coreProperties>
</file>